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463867"/>
        <c:axId val="61753285"/>
      </c:barChart>
      <c:catAx>
        <c:axId val="834638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753285"/>
        <c:crosses val="autoZero"/>
        <c:auto val="1"/>
        <c:lblAlgn val="ctr"/>
        <c:lblOffset val="100"/>
        <c:noMultiLvlLbl val="0"/>
      </c:catAx>
      <c:valAx>
        <c:axId val="617532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4638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A446-947F-46E1-8EB1-00564D488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1573-525E-481C-BEAB-B8C8DB65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659C-B984-48D0-B7CD-D44BA0B65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22C7-06E0-4052-A5D1-81F7845E1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C27B-ACE1-48EF-910A-A3B9198E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FA98-F985-486B-B29E-D7CFBF93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42EA-952B-4BB9-8007-30669605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791C-0480-4365-9B9C-27A77EE3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84ED-FA3B-46ED-9670-7A380FAA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C345-7AE6-4587-8DBA-180F1441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E185-5277-4A00-881D-0AC774EA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34FC-DD0B-4F6F-94A4-83126332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183B7-F31C-44DA-BD25-C1BE8FF561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