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616120"/>
        <c:axId val="45243339"/>
      </c:barChart>
      <c:catAx>
        <c:axId val="516161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243339"/>
        <c:crosses val="autoZero"/>
        <c:auto val="1"/>
        <c:lblAlgn val="ctr"/>
        <c:lblOffset val="100"/>
        <c:noMultiLvlLbl val="0"/>
      </c:catAx>
      <c:valAx>
        <c:axId val="452433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6161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9607-54A5-4BD3-9BF2-C6E3E34F1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546D-CD6D-4564-A22F-8BBA2D4C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D40B-8CEA-4AC1-81EE-7B1CD7EA1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C4CA-266D-4CBC-9E01-F34236131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CE31-FD76-41CF-AC17-A9B032B1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C614-C1CF-4C5C-9C21-BAEF756D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C1A1-6D3B-4E2C-937D-DAA1B434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5ED0-0E7A-4DF8-8AF5-9CF493A1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DEDA-94FA-41D5-9A6E-64A689A7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C252-F42A-42ED-9D27-DD07E53B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D876-C33D-4489-9F23-D14E6632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073F-F4B8-4589-8FAD-20929728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1437B7-12DA-4981-8637-1409029054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