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72013"/>
        <c:axId val="47615783"/>
      </c:barChart>
      <c:catAx>
        <c:axId val="12872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5783"/>
        <c:crosses val="autoZero"/>
        <c:auto val="1"/>
        <c:lblAlgn val="ctr"/>
        <c:lblOffset val="100"/>
        <c:noMultiLvlLbl val="0"/>
      </c:catAx>
      <c:valAx>
        <c:axId val="47615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2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5C6-8FCE-4F70-95A4-F1EF8D10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6E6-5930-4DAF-905A-F749C1F9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F190-A9D0-42D5-9761-63580134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BB7-267D-4DA0-A9FA-1C4F98B3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708-00D0-444E-9A0B-B3ED62CB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274-27D4-4EC3-B2F0-7156175E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A70-318C-4D10-BBF5-2C2506F0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FD1-EF79-4CD2-8620-7FFF3435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5D9-702E-4301-A2BE-7421F346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292-D255-4D85-9D03-2810BDA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9FB-78AF-4794-99F2-BEA756B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AAE-FA42-4A81-8AA7-7116676E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EBD2C-7DCC-4C55-8A3A-7BEC20CCA4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