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139772"/>
        <c:axId val="21488778"/>
      </c:barChart>
      <c:catAx>
        <c:axId val="851397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488778"/>
        <c:crosses val="autoZero"/>
        <c:auto val="1"/>
        <c:lblAlgn val="ctr"/>
        <c:lblOffset val="100"/>
        <c:noMultiLvlLbl val="0"/>
      </c:catAx>
      <c:valAx>
        <c:axId val="214887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1397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AD6C-F22E-4361-8142-DE388FE12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20AC-6C4C-4569-92D2-771A18208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73B7-EE9B-4260-A1C4-3863F1CE1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4127-08D4-4D3D-8AFA-C3EE0BB78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153F-90EA-4704-AC8A-43478FF6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D375-B281-40C9-B5F4-25197BC4B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C6FB-4873-442F-89C6-195D5F950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6EC0-2B33-4E99-9FA0-F7BAF938F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47E7-4195-4D83-8A5B-D6E631396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9FF8-C301-490F-BF16-01CAE7EA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6117-F406-4059-AB28-21DAD03D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FC2F-EAAA-48D3-B8BC-6F2B88C7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22383A-7500-4B82-9177-63CBDA65672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