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49871"/>
        <c:axId val="27518340"/>
      </c:barChart>
      <c:catAx>
        <c:axId val="71849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8340"/>
        <c:crosses val="autoZero"/>
        <c:auto val="1"/>
        <c:lblAlgn val="ctr"/>
        <c:lblOffset val="100"/>
        <c:noMultiLvlLbl val="0"/>
      </c:catAx>
      <c:valAx>
        <c:axId val="27518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49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5F0-C5FC-466F-AB26-06F95818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506-3772-46E2-B2A0-F7E64300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A4C-554A-4985-9B39-7438AD90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11C-AA16-43D0-BA8D-A20CAADD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884-AE61-4712-AB3C-D81C1EA5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395-A659-4E58-92D5-68C40003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1B3-196B-4402-A945-4EA4E5A6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D8D-4DF7-4083-9F5B-CB486276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B46-BBE1-4AB8-8599-A79407BD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E31-882C-4565-BDD7-38CC3A5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50E-BECA-4D2D-A0E1-6A45571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AC1-CD8B-4892-94F1-2C00600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2F1AD-8B4D-4CA0-A771-256231560B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