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11780"/>
        <c:axId val="76934654"/>
      </c:barChart>
      <c:catAx>
        <c:axId val="29011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4654"/>
        <c:crosses val="autoZero"/>
        <c:auto val="1"/>
        <c:lblAlgn val="ctr"/>
        <c:lblOffset val="100"/>
        <c:noMultiLvlLbl val="0"/>
      </c:catAx>
      <c:valAx>
        <c:axId val="76934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11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22F-DB33-484C-BF98-8511C72C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36E-42FD-430F-8BF1-B2050B9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1F3-4267-41D9-BC15-DF95C571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9F3-3912-4293-B3C5-6412A0D2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24B-9F5A-4860-BACC-1D2E627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84A-EB88-4476-8CA1-4BCDD85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AB1-5516-4032-887E-AC599E01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496-1B0E-42C3-A8F1-61830E8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67D-5E51-48CD-89E1-F055356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F5B-B651-4D08-94AF-2BE6DF8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316-E9D4-48B7-8519-F83345F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7B3-4372-44F7-8C31-8459DB9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63A82-871B-4566-A4A9-DDA47CF2D0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