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633560"/>
        <c:axId val="85985764"/>
      </c:barChart>
      <c:catAx>
        <c:axId val="526335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85764"/>
        <c:crosses val="autoZero"/>
        <c:auto val="1"/>
        <c:lblAlgn val="ctr"/>
        <c:lblOffset val="100"/>
        <c:noMultiLvlLbl val="0"/>
      </c:catAx>
      <c:valAx>
        <c:axId val="859857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335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C2F-FF63-4A36-A02E-79A2DED6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63A-02E9-4E5B-BB1B-4BBD4351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E791-8773-4C50-B2B7-805800B7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24E8-2E53-4F12-8CAF-F804AA25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2289-D75D-4F54-A145-A311E79D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BD1-326B-4E05-BB4B-BBE3117A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2B6-91E2-4618-9695-2FC78B87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53F6-CA29-4649-A88D-A7FD3748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C4B1-8175-4FA2-97ED-EBA71057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D2E0-4C35-4123-9622-73B925CC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4587-942D-405D-9E3F-0DC41F26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5007-F89C-4F56-B7E9-7D65E8F6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D9FCD-9F42-411D-9F63-304A10265D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