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118393"/>
        <c:axId val="27478289"/>
      </c:barChart>
      <c:catAx>
        <c:axId val="141183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478289"/>
        <c:crosses val="autoZero"/>
        <c:auto val="1"/>
        <c:lblAlgn val="ctr"/>
        <c:lblOffset val="100"/>
        <c:noMultiLvlLbl val="0"/>
      </c:catAx>
      <c:valAx>
        <c:axId val="274782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183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5AC1-373E-400F-8944-55EDB612E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4BDA-FB5A-47FB-B47B-E9F54B8D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474C-97CC-46E9-887B-909F1CEF9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D2EC-4E03-4425-8C9C-9AC4F1AF9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5F19-7191-442F-A124-ACD06BCB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90C9-D5D9-435D-A39F-5DEA1D88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E831-71C2-442F-842B-AE24C656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55A4-1B28-414E-BA55-1932A2D8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1CF4-3C77-414D-8BC2-51D68C5E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3675-A289-4F06-8C8C-50D3C51A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39D5-79B2-4CD8-B4EC-7A246E0B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C991-8350-4AAB-A6CE-55AC59FD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C46F89-0463-457B-8DA3-F8B337A6CA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