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46705"/>
        <c:axId val="33185033"/>
      </c:barChart>
      <c:catAx>
        <c:axId val="94346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85033"/>
        <c:crosses val="autoZero"/>
        <c:auto val="1"/>
        <c:lblAlgn val="ctr"/>
        <c:lblOffset val="100"/>
        <c:noMultiLvlLbl val="0"/>
      </c:catAx>
      <c:valAx>
        <c:axId val="33185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6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077-1055-4BEF-BD2B-2F4DE064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587-093B-45D8-9B08-277AE327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420-7855-43B9-8930-8D15F10F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DBC-9B6D-46BA-8D87-BE7885AB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62B-B5FF-4502-9D88-4F7035B8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3F7-23AF-4E3D-BD99-832E8A5C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060-F8C7-47EB-967F-94B74D75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C27-DC4A-48B6-B669-9F9B1F0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299-C7F8-45D2-AB62-33D59C94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F9D-5A34-4E02-A0C2-2A86CCF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E7B-E145-4ED3-AEAF-C8C91374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D5B-30C5-4777-AA6C-43A93E5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20CBA-3FB2-4895-94D8-0B729CF6D0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