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31370"/>
        <c:axId val="28241111"/>
      </c:barChart>
      <c:catAx>
        <c:axId val="685313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41111"/>
        <c:crosses val="autoZero"/>
        <c:auto val="1"/>
        <c:lblAlgn val="ctr"/>
        <c:lblOffset val="100"/>
        <c:noMultiLvlLbl val="0"/>
      </c:catAx>
      <c:valAx>
        <c:axId val="282411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313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D0A-A49E-42C1-80EE-1AFF592B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A58-3B4F-4269-B525-9C45980D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C3C-D472-4A3B-AC08-7543628F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A15A-7789-4AC0-8C34-AA102420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C63-DD6D-47B5-AF1C-6D442E44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80C-FC13-409F-9EE5-06E6FC36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DAC-E42F-4845-93B0-11028A14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5DE0-5880-4229-AF77-9337B30B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887A-C680-41AD-B4A7-94717B6D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C8BE-096D-43AC-B314-DBA73C5C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693-90D2-4148-961C-AD220BC0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F46D-A486-4418-A7AF-20108197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AECB2-3402-480C-BA91-D970B57739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