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46942"/>
        <c:axId val="92245184"/>
      </c:barChart>
      <c:catAx>
        <c:axId val="53746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5184"/>
        <c:crosses val="autoZero"/>
        <c:auto val="1"/>
        <c:lblAlgn val="ctr"/>
        <c:lblOffset val="100"/>
        <c:noMultiLvlLbl val="0"/>
      </c:catAx>
      <c:valAx>
        <c:axId val="92245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46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5F3-0804-4E55-AAD0-8A3D2028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619-928C-42A5-8B88-C589F47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9A2-6CDB-4EC5-AD47-BE745127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EF7-EDAF-4CF3-B8EE-06E3F8C0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2AD-0F5B-4870-A614-FB2EC4C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FD2-16B8-4A5F-AC29-29137E0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836-5447-409F-A456-6335789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7B0-7901-4584-B907-B125AE1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303-028A-4A4A-A474-BABDB20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E4E-D60D-4F43-A3B5-6B75E583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315-FEF1-4F84-9D8D-CE4EFC9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B1B-FFBC-43B1-B3DF-76AAA53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DD191-C2A6-4043-B9E8-12B07E657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