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77791"/>
        <c:axId val="45697978"/>
      </c:barChart>
      <c:catAx>
        <c:axId val="70577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97978"/>
        <c:crosses val="autoZero"/>
        <c:auto val="1"/>
        <c:lblAlgn val="ctr"/>
        <c:lblOffset val="100"/>
        <c:noMultiLvlLbl val="0"/>
      </c:catAx>
      <c:valAx>
        <c:axId val="45697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77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3B5-D005-4839-822A-447C4D7F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2D89-38CD-4359-85A4-948E4F7B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CDBB-22EA-45B9-801D-ED221D6D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885-1DAA-4D94-8253-1A2D37A6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661-26FF-4B0E-B812-8E7551E5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DB4-8FCB-4145-8099-ADBD6620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B4C-E915-4163-B854-E58FFF0E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B3F-AE68-4A6E-AD7D-F120B111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CC9-134D-43D3-AC6B-1E186556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F40-34BD-4312-AEF1-EABC0180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3E1-F130-4886-A049-7BCA7AE5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9B82-292D-4279-A316-54418E99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D965A-DB3C-42E2-A87B-B46B22FCD5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