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847158"/>
        <c:axId val="99847348"/>
      </c:barChart>
      <c:catAx>
        <c:axId val="628471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47348"/>
        <c:crosses val="autoZero"/>
        <c:auto val="1"/>
        <c:lblAlgn val="ctr"/>
        <c:lblOffset val="100"/>
        <c:noMultiLvlLbl val="0"/>
      </c:catAx>
      <c:valAx>
        <c:axId val="998473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471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4FD6-A043-45B1-8E5A-0BF8ED15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757C-8D3E-49D9-A6FA-C89D8FC7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86FA-551C-471B-8EBB-9583E244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06E5-7D5A-451D-9C98-2B4D79E5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7A7-397A-460E-84B1-99120071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A321-6F38-43E6-9C30-3D039FAE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9938-CAEA-4878-97FA-4BC80B60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C202-7A26-4916-A6F6-A5084B68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02EC-C515-4BC4-887B-9D9C2CEF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7EF3-5586-471C-8557-50A25A9C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38D6-E45E-4B24-97A4-282C7ED2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3989-C22C-4276-8952-BB474F87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E627C-0D6D-4E18-A88C-5CDAD1D480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