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13576"/>
        <c:axId val="4332371"/>
      </c:barChart>
      <c:catAx>
        <c:axId val="71113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371"/>
        <c:crosses val="autoZero"/>
        <c:auto val="1"/>
        <c:lblAlgn val="ctr"/>
        <c:lblOffset val="100"/>
        <c:noMultiLvlLbl val="0"/>
      </c:catAx>
      <c:valAx>
        <c:axId val="4332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13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BF1-3A20-4628-A43F-C904B53F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7E4-0E0C-4529-80E2-7789137B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31C-9395-4C02-AF29-FF1861FF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FEB-D856-45BE-B14F-8AB14CC3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E46-E5FE-45AB-AAF3-05808160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C7F-3E2C-4FF3-94ED-8F9EAB93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3CD-7B8E-4820-BC36-9EC3D7F1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9D3-735D-42E3-8439-F719A6F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A57-3944-435A-836C-E3F4565A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E2E-EC24-43C8-907A-4EC46CF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F5D-E856-4627-80C0-B3A4F19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0E3-CDDF-46FE-869B-2B38FB1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CB91-FD10-4D30-B13D-EC1EAF3FA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