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56152"/>
        <c:axId val="66959409"/>
      </c:barChart>
      <c:catAx>
        <c:axId val="69456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59409"/>
        <c:crosses val="autoZero"/>
        <c:auto val="1"/>
        <c:lblAlgn val="ctr"/>
        <c:lblOffset val="100"/>
        <c:noMultiLvlLbl val="0"/>
      </c:catAx>
      <c:valAx>
        <c:axId val="669594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6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72F-DA3B-433B-A3EC-959B65E6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59E-7D24-4C15-9947-2A96E03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F1A-D1B2-43D9-AA48-80E4DDF7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388-4CA2-4FDB-AEB2-B4EBFC1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F94-160D-48D5-8F97-DB7690C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8B65-1550-424C-89E0-1FCFB37E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1D5-8FC2-43DF-9EEE-B7026824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BBB-E1D2-4CBD-B2C6-41039F8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76B-D57C-4397-9186-1CDFD46C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587-0831-48BC-826C-ED01CCF0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BC6-4622-45EE-ABEA-2495A8B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1BC-600E-47E2-B73C-F4AA334D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9B476-0B64-4B40-8801-6D5A3A222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