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97806"/>
        <c:axId val="83505751"/>
      </c:barChart>
      <c:catAx>
        <c:axId val="91297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05751"/>
        <c:crosses val="autoZero"/>
        <c:auto val="1"/>
        <c:lblAlgn val="ctr"/>
        <c:lblOffset val="100"/>
        <c:noMultiLvlLbl val="0"/>
      </c:catAx>
      <c:valAx>
        <c:axId val="83505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97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342-F4F4-419A-BD01-06A26936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77F-E984-4923-B803-AAB942BF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A4A-1D7E-4972-98FE-7CE75C33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8D9-CB53-4E92-A2F2-FC8540EA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24E-F5DA-4358-9741-9D3F7542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308-AECA-433C-94BD-655ECE58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FBF-21DE-4AE4-B158-E22EDB03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CD0-3F64-4BF7-BEBB-65F7B7AF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B6D-A9AB-449C-B03B-793FA6DA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C52-AC60-4202-B544-D7BFB37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CCC-6EAD-40A1-B76F-70AC40C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E6A-67BA-4A6E-80D6-0509B7D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6CC17-74F6-4ED3-88D1-77D93907D1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