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76425"/>
        <c:axId val="98028065"/>
      </c:barChart>
      <c:catAx>
        <c:axId val="997764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28065"/>
        <c:crosses val="autoZero"/>
        <c:auto val="1"/>
        <c:lblAlgn val="ctr"/>
        <c:lblOffset val="100"/>
        <c:noMultiLvlLbl val="0"/>
      </c:catAx>
      <c:valAx>
        <c:axId val="98028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764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00D-71D0-424F-B39D-9738B2F8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670-2F2C-4B69-ABC0-54FA1C9B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7AA-7D70-469F-8532-94C18817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630-8280-44B4-BF1C-42C7A56C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FC7-78D1-44AA-B78B-B5901EFF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F30-9CAA-4354-9001-70D5178A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C6E-3371-464B-971C-06030DF7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A05-E371-4AF1-BBC5-9AF01446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B78-583A-40E0-8111-92AA4EA7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E37-0AD7-4184-BE11-7827B203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4AE-5373-436A-ACAE-2BA6C9DE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723-4B70-49C6-A72F-D63C832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E665B-379D-4566-B9FC-3CB726D307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