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46425"/>
        <c:axId val="30481596"/>
      </c:barChart>
      <c:catAx>
        <c:axId val="46846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1596"/>
        <c:crosses val="autoZero"/>
        <c:auto val="1"/>
        <c:lblAlgn val="ctr"/>
        <c:lblOffset val="100"/>
        <c:noMultiLvlLbl val="0"/>
      </c:catAx>
      <c:valAx>
        <c:axId val="30481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46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9D8-3481-4035-8035-EE652ECE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E2B-5873-45DC-8496-4E9FCE06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5A5-D6F2-442F-AE31-554589F0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341-9D1F-4AD4-8B03-3709E844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045-219D-4894-BD21-BB212C37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A01-2A29-44A9-A439-42504F6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4E9-F874-45FF-9CA0-E0549ED4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324-E7AD-4A78-8AA0-BEB298B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4DD-53A8-4BA0-BE54-78684F64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A1F-EDCA-4989-96BB-94063403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070-E564-4F17-9D12-544320B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4D5-56F4-4DDC-9961-AB6A162A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44243-52CA-4569-A7B7-292B71A9CA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