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76355"/>
        <c:axId val="30416360"/>
      </c:barChart>
      <c:catAx>
        <c:axId val="26763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416360"/>
        <c:crosses val="autoZero"/>
        <c:auto val="1"/>
        <c:lblAlgn val="ctr"/>
        <c:lblOffset val="100"/>
        <c:noMultiLvlLbl val="0"/>
      </c:catAx>
      <c:valAx>
        <c:axId val="304163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63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1223A-5355-49E6-8CF5-FD4FFDA3A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FF6B-1DC3-42CB-B68A-06C13852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070-5EE4-4299-BCA5-8910CA70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6623-6D01-4152-B8DD-8A4206652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46EC-A47B-44F7-B6A6-349FE09A1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B34E8-1C1B-4D58-9B0B-7BC3E0B9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087E-20BA-4CF2-A40C-F3E538CB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1843-D219-4F1D-B075-B2FE780CA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19E0-5A6D-4416-B0BD-2FAE4259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293F-02E1-4AEC-B937-47F15320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6CD-AE8C-43DE-B73B-E8DF423D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C34-8A73-4CEA-81E8-3E00B387E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D2005-99CF-4FB2-96B3-59AA1EC9D4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