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4871618"/>
        <c:axId val="11880651"/>
      </c:barChart>
      <c:catAx>
        <c:axId val="2487161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880651"/>
        <c:crosses val="autoZero"/>
        <c:auto val="1"/>
        <c:lblAlgn val="ctr"/>
        <c:lblOffset val="100"/>
        <c:noMultiLvlLbl val="0"/>
      </c:catAx>
      <c:valAx>
        <c:axId val="1188065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87161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EEA1E-2FA6-4B57-9ECC-D3F3A441A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5D38A-11DF-444A-9E22-F9533A64C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9AC36-DAEB-40BF-A24C-62BB50A2D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99020-3022-4507-9F85-55369B13E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DAB8A-678A-4C1A-A7CB-4933A6DE4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CD18E-ECA5-4930-94C9-5D39B1CD4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55349-9884-4B8C-953C-5B9A11A15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A30DC-4403-408F-ADE8-32A6D7CBA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CAEF8-6968-43EB-AC46-233CEB9D5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971A4-2BDE-478B-A8BC-5431F7A87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33C0A-32D1-4703-B74B-187435B04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8CBE4-36C1-40ED-9683-6F3E84909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DA7EB4-5EEF-4630-9E33-0EA782920E8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