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14807"/>
        <c:axId val="81982880"/>
      </c:barChart>
      <c:catAx>
        <c:axId val="77414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82880"/>
        <c:crosses val="autoZero"/>
        <c:auto val="1"/>
        <c:lblAlgn val="ctr"/>
        <c:lblOffset val="100"/>
        <c:noMultiLvlLbl val="0"/>
      </c:catAx>
      <c:valAx>
        <c:axId val="81982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4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16A-4320-4807-BBB3-ED9D2886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7C3-3C63-4BF9-9914-4627B7BD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847-E92C-417B-8855-AD9EA5D1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510-8B5C-470D-9E0A-961957EB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D95-0AF1-452A-9071-D8E8C85A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600-D4AF-4CCA-9BE2-A9132F5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219-1F66-41AE-B288-730AC64D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8A2-E274-4693-A59E-7ECD6F6D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E6D-C17B-4D4A-8660-DF251471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7DD-7F53-439B-B2DD-233102D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16F-8C66-4669-840F-C6815A05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D3E-159F-4BAC-AB2A-A1A06B2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57AB9-AF2F-48F1-8400-7B377FDF5F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