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31893"/>
        <c:axId val="47617810"/>
      </c:barChart>
      <c:catAx>
        <c:axId val="60331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7810"/>
        <c:crosses val="autoZero"/>
        <c:auto val="1"/>
        <c:lblAlgn val="ctr"/>
        <c:lblOffset val="100"/>
        <c:noMultiLvlLbl val="0"/>
      </c:catAx>
      <c:valAx>
        <c:axId val="47617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1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173-D52C-4397-B804-48F01844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3FD-26A8-4861-8733-08EFB3D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36A-0FB3-4B8B-A312-DE98CF49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BA6-83E9-4026-B599-57707B82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740-62C2-4250-9B9B-99C8D51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D9B-7D46-4376-A351-1A0A043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F56-6886-45F8-9C20-99E8797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E29-0D38-458C-BAC6-AB04FF80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BA7-B7BE-4D4B-A1E2-0C60055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1E1-C795-4E65-A6AA-2424E7DE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968-3EF1-4E56-953A-B52E8A8E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5AF-50A4-41FF-91BE-800EF37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D8F30-4529-4D3C-8DD7-0FAA1DC7A3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