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95968"/>
        <c:axId val="25324047"/>
      </c:barChart>
      <c:catAx>
        <c:axId val="461959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24047"/>
        <c:crosses val="autoZero"/>
        <c:auto val="1"/>
        <c:lblAlgn val="ctr"/>
        <c:lblOffset val="100"/>
        <c:noMultiLvlLbl val="0"/>
      </c:catAx>
      <c:valAx>
        <c:axId val="253240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95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F58-BE1B-4480-8504-2D41C1C2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E5AE-7E5D-483C-80C8-D20DE450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BDC-EC67-4465-B01B-912916A8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EB3-A33C-47DC-9347-8413B328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D64-BB60-4FC4-B53F-F3B409FD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A1F-D78F-403A-9B25-E40BAA34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C45-22BC-4CA3-980D-A57E8A06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AFC-DE97-4E0A-9F8B-45F2CADD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241-3F72-4767-936C-A697BFFA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9A6-0AC5-4478-9BE3-72528605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4C8-B729-40DF-9F8C-8E791D61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075-BA4C-426F-B591-57C34CB3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A6A32-E43A-420C-9248-7E2CAC4E92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