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56361"/>
        <c:axId val="9812390"/>
      </c:barChart>
      <c:catAx>
        <c:axId val="88956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2390"/>
        <c:crosses val="autoZero"/>
        <c:auto val="1"/>
        <c:lblAlgn val="ctr"/>
        <c:lblOffset val="100"/>
        <c:noMultiLvlLbl val="0"/>
      </c:catAx>
      <c:valAx>
        <c:axId val="9812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56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36A-C922-4F9B-8CBF-3A89DFA1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0AE-9934-4B25-AD80-EC90F2D3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33A-5717-4142-8CB9-DBEC6502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D7F-FF1F-49B6-AFEB-340A9A9F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9B6-4501-4E89-91E7-9241D9EB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123-A588-46A1-9347-C464E7B4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EB4-8FB8-4377-981B-39406F7E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0C9-B7F6-4C9A-8895-0FCECE9A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0F4-2298-498C-9B0F-BE56387B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C65-104E-4A4C-BE40-E1BF0476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883-149B-40BC-9382-1CD17627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742-5BC9-4ABC-8DC7-C88F0698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39376-D7D2-4AFA-8FA9-C92491C911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