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72855"/>
        <c:axId val="17556332"/>
      </c:barChart>
      <c:catAx>
        <c:axId val="86072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56332"/>
        <c:crosses val="autoZero"/>
        <c:auto val="1"/>
        <c:lblAlgn val="ctr"/>
        <c:lblOffset val="100"/>
        <c:noMultiLvlLbl val="0"/>
      </c:catAx>
      <c:valAx>
        <c:axId val="17556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72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F8A-D56C-418F-B611-4CA6940C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613-D549-49E5-93A4-6D91BE25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13A-A772-4ED5-A064-1BD2F00A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982-ECEF-45D2-8080-FA24040D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B95-333F-455F-B61C-A58C7E0D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5CE-CA3E-4F0F-976E-4E473B4D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401-EF48-41E2-BF07-9CA5E4B4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0FF-F754-40B2-9FF0-6D426614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780-5A25-4940-B6E0-9A728F8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860-A607-40FF-B053-9521FD3F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F62-C982-4A26-9875-D007C8A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87F-D818-4E00-AAE3-771161B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11523-0C8D-4F63-A3D6-8D99A8100A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