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52415"/>
        <c:axId val="66780026"/>
      </c:barChart>
      <c:catAx>
        <c:axId val="14552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80026"/>
        <c:crosses val="autoZero"/>
        <c:auto val="1"/>
        <c:lblAlgn val="ctr"/>
        <c:lblOffset val="100"/>
        <c:noMultiLvlLbl val="0"/>
      </c:catAx>
      <c:valAx>
        <c:axId val="66780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52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ADA-8C80-49A7-BF3B-EEFB2A50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3D0-8C52-4180-8D2C-C11A163C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3F5-3F65-4B5B-B73E-2CC379FA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8C6-9CA3-43F4-BA80-2613F5AB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024-0650-4A82-9143-39E0153B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677-2E55-4B61-A61F-37E0B8FC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B56-66ED-4DED-A05E-98543A9A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11D-E895-4713-9F03-0C586733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11D-4530-4BD8-AFDE-CD561C55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BDC-D0E9-4C07-A7B5-482776E2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0D9-6C62-4299-AFB3-FE58551A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7B1-F5F7-4954-B6E9-7C5D248D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C4656-F5AD-4816-8299-C1800DE1B6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