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07818"/>
        <c:axId val="14472185"/>
      </c:barChart>
      <c:catAx>
        <c:axId val="80707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2185"/>
        <c:crosses val="autoZero"/>
        <c:auto val="1"/>
        <c:lblAlgn val="ctr"/>
        <c:lblOffset val="100"/>
        <c:noMultiLvlLbl val="0"/>
      </c:catAx>
      <c:valAx>
        <c:axId val="14472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7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99B-FE42-4F86-B3D8-D4233DA1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CEF-1E90-4E0A-9918-4D457D4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7DD-E3ED-4C8D-BE3D-49D89B94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29C-3EC6-47F8-8A16-0DDCBE17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CB9-8872-4E9E-A269-90D4776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33D-DEF3-49A7-987E-302BB39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F11-BDA1-4E19-9216-B00F534B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A72-54BA-49C0-AF1A-FC6313C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C15-B133-43D6-81CB-B225C271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783-D29F-431A-A21E-208CC1B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178-604A-4594-B48E-42580667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16D-A4DB-4A14-9A86-04CA222D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D4816-0B51-49D8-AB41-C263539152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