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47903"/>
        <c:axId val="38571430"/>
      </c:barChart>
      <c:catAx>
        <c:axId val="30947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71430"/>
        <c:crosses val="autoZero"/>
        <c:auto val="1"/>
        <c:lblAlgn val="ctr"/>
        <c:lblOffset val="100"/>
        <c:noMultiLvlLbl val="0"/>
      </c:catAx>
      <c:valAx>
        <c:axId val="38571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47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BF0-F727-4281-9D9D-CB2C77A6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3D7-4C2C-46B4-97D1-A214B42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338-5866-4956-B326-258F99C3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9D-47B7-4B28-90FF-B0C22817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3B0-2843-4771-B1E2-2183598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25A-29F3-46E7-93B3-21B934F8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54D-A11A-451B-BE94-0E1E3D7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F81-B170-4EFA-9D79-2D07AD9B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8A3-BA47-46E9-A4B5-218CF35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2B0-DDC2-47E0-AADF-43CB6686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282-6315-4075-BBDF-138CBF5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58D-32CF-4C6D-8A3D-F591A52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20C7B-1DB4-4684-8624-DA6E7A31A8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