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32711"/>
        <c:axId val="91238664"/>
      </c:barChart>
      <c:catAx>
        <c:axId val="24932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38664"/>
        <c:crosses val="autoZero"/>
        <c:auto val="1"/>
        <c:lblAlgn val="ctr"/>
        <c:lblOffset val="100"/>
        <c:noMultiLvlLbl val="0"/>
      </c:catAx>
      <c:valAx>
        <c:axId val="91238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32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42F-F06B-4BA8-9E4D-4A9BD33A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74E-7870-44CA-8744-7316C055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361-35F7-4944-B396-116A9B90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6AD-263E-4E11-B3F4-4DD15AF7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7DD-82EF-40C9-91AD-ADE1FF0C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FE2-3598-42D6-8F9F-0EE27666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522-2237-493E-8B35-9FF6D081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EDB-FD29-4F35-86D1-0BC5F000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187-FD6C-4EE9-937C-98731723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CD4-6107-4AC0-80CC-E210B4CC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0BC-0D7A-41E3-8FEC-2C3017C8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E19-CAF5-4B8B-9236-BECFB4E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DE106-5B81-49A8-853B-D80B620BF7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