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33090"/>
        <c:axId val="53424210"/>
      </c:barChart>
      <c:catAx>
        <c:axId val="882330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24210"/>
        <c:crosses val="autoZero"/>
        <c:auto val="1"/>
        <c:lblAlgn val="ctr"/>
        <c:lblOffset val="100"/>
        <c:noMultiLvlLbl val="0"/>
      </c:catAx>
      <c:valAx>
        <c:axId val="53424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330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D76-8AC3-44B5-B9AF-2D60B27B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B9DB-BC69-4260-A070-9198A776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ABB-37F1-402A-AEF7-514DC07F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DA5-0CE7-4884-9667-BD0579C8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02D-F102-4856-B203-977F85BF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F7D-3CE7-44CF-9D32-915E0B8F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78A-FCE8-4E44-8ED9-DB81117A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086-376F-4242-8156-CB7AF2E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F75-C8F8-4027-8EF4-79E41152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654-3C16-4FD9-A32E-F8AEF819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DFD-A984-4EF0-B7AF-E95632B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91B-CC24-4BBF-8E60-08FCF67D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0EF3D-4C5C-4D31-81E0-9F3D41DCC0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