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1460"/>
        <c:axId val="4500055"/>
      </c:barChart>
      <c:catAx>
        <c:axId val="75914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0055"/>
        <c:crosses val="autoZero"/>
        <c:auto val="1"/>
        <c:lblAlgn val="ctr"/>
        <c:lblOffset val="100"/>
        <c:noMultiLvlLbl val="0"/>
      </c:catAx>
      <c:valAx>
        <c:axId val="4500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14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EED-CE83-483A-ADB5-D9F2A1B1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4D24-C0A7-4D0C-BB57-E9869299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3FA-D158-41C3-802B-CB80108A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04E6-AA11-42C5-A1E1-15A09681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26F-1C47-4352-AC14-2E89B903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0301-A59C-4AE0-9A55-40227593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DFAB-7EDF-4981-A1C6-5A38CAF4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47E5-3E53-4A46-9552-2B31604D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CED6-10B2-40FC-8C54-1FA8D12F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F33A-CC54-41A7-BD4E-E19DBEA9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02A-15D9-4F58-A889-55053A16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B55-3689-48AB-88C9-2CE56AE7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9ACA1-0F01-455E-B6A5-57239FC0AC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