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74483"/>
        <c:axId val="85932387"/>
      </c:barChart>
      <c:catAx>
        <c:axId val="54774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32387"/>
        <c:crosses val="autoZero"/>
        <c:auto val="1"/>
        <c:lblAlgn val="ctr"/>
        <c:lblOffset val="100"/>
        <c:noMultiLvlLbl val="0"/>
      </c:catAx>
      <c:valAx>
        <c:axId val="859323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74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E4DA-1B5E-43C0-8C1B-D63C3F67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1E16-CB72-49BF-8867-B47222FF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923-C868-4C0B-A89F-EA022EFA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C538-C815-47DC-AC34-E68A6799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92C-307E-4D75-BB0B-2B3BCA2E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73B-F67A-4DAE-8558-226694A7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8EE2-3599-4F3D-A050-F11C0381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694D-70A5-4B09-A6DF-8CD2AB77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4A5F-D08C-470A-8BE5-10B4E4B7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0A5-35E5-46BF-8FE5-1A9605D8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7C8-3990-4F13-BEE6-66F226A5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24A2-3F88-42B2-8DD8-C8126C38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83A31-5AD8-4FC4-8022-2DCCFC66C5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