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99479"/>
        <c:axId val="28299243"/>
      </c:barChart>
      <c:catAx>
        <c:axId val="29099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9243"/>
        <c:crosses val="autoZero"/>
        <c:auto val="1"/>
        <c:lblAlgn val="ctr"/>
        <c:lblOffset val="100"/>
        <c:noMultiLvlLbl val="0"/>
      </c:catAx>
      <c:valAx>
        <c:axId val="28299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9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3AA-14FC-427D-A2F0-DC548917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7EB-D46F-4543-975E-A26D223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15C-FE77-4383-A0CC-4D9F1918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807-16FC-4515-A445-6FEEDE8E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831-2965-4382-A881-6D6A34E2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A35-616B-4C72-A5F4-299082EE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CD6-9642-489B-9489-5B49AE45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991-2029-40BE-8D42-23756C0C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AF9-AC17-49B8-A008-B947399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28F-77D6-415F-A698-1F2D782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15D-8E78-4B53-BD75-93F369D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0CC-5B3F-4476-91F9-C870144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4E9F7-1B0D-421A-AE21-49FF713A9A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