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5244168"/>
        <c:axId val="26189066"/>
      </c:barChart>
      <c:catAx>
        <c:axId val="2524416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189066"/>
        <c:crosses val="autoZero"/>
        <c:auto val="1"/>
        <c:lblAlgn val="ctr"/>
        <c:lblOffset val="100"/>
        <c:noMultiLvlLbl val="0"/>
      </c:catAx>
      <c:valAx>
        <c:axId val="2618906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24416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716E2-21CA-424E-B034-4372FD1D0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796F0-1E2A-41C3-9C6E-C8EEEE867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8A76F-EF08-4135-9790-CBEDD3F8C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CBA9F-CD3D-47EB-B6F5-A3014CFA1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2576B-A310-4B42-A7B6-2A820C5AD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A6F69-5674-4055-B378-8592285C8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E37B1-74DD-4570-B052-CB689120C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2FF21-688F-4C4F-8943-48301E153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BA31F-EE87-4FBA-BAE0-CB7B2AD91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903D3-0A0A-4D33-8B68-9468864D3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2D22C-2EE9-4378-9B5F-9E8EC11CB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997A4-D96C-4A1B-AE13-DB2848DF2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01D06A-E355-4FD1-83CC-EBC679BA4A0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