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26670"/>
        <c:axId val="3538231"/>
      </c:barChart>
      <c:catAx>
        <c:axId val="41726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8231"/>
        <c:crosses val="autoZero"/>
        <c:auto val="1"/>
        <c:lblAlgn val="ctr"/>
        <c:lblOffset val="100"/>
        <c:noMultiLvlLbl val="0"/>
      </c:catAx>
      <c:valAx>
        <c:axId val="3538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26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CE1-AA9C-4454-9F46-58926689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603-1555-4E00-8966-F71A30BD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A1C-1AFE-4D2C-AD66-BADCC09E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8CF-B7BB-4CFB-8AE7-B67E47B1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4A2-642B-47C2-B297-2605F8CC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982-F383-4B5A-BA07-53333994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525-27F0-421A-B736-90541E23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5AD-8004-4FB3-B4FE-F4641AC5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D45-4FC7-404D-9302-75E07881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5EE-4C4C-4265-9D79-A405E7A1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7FB-B8A8-4981-A82F-15D6686C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91B-9038-4117-B99E-87D169B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3F871-9E29-4032-AE07-5C482D2F4B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