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76278"/>
        <c:axId val="11635311"/>
      </c:barChart>
      <c:catAx>
        <c:axId val="10176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35311"/>
        <c:crosses val="autoZero"/>
        <c:auto val="1"/>
        <c:lblAlgn val="ctr"/>
        <c:lblOffset val="100"/>
        <c:noMultiLvlLbl val="0"/>
      </c:catAx>
      <c:valAx>
        <c:axId val="11635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6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3D5-7203-4AA8-BD8A-E9862692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541-DA4B-4B00-9D63-A5BC389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955-4AE3-43F9-98E7-B3060D1C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6B8-8359-4A84-B9EF-800AD9B9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A96-7234-4EB7-A127-9AC18CF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802-36B5-4017-AD21-0005CE3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3D4-17AC-4318-BE0B-7569B11A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C6E-49BF-4024-BBC8-A6508E1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B17-F54C-421F-A634-EECE8CB4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362-CC2C-4E45-ADAA-47E671E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19B-156C-4056-859A-8FCF8E0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819-3EA4-47ED-8986-C9CA6FB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FD68E-CF55-4C16-A6EE-19DC1C78A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