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91038"/>
        <c:axId val="31782270"/>
      </c:barChart>
      <c:catAx>
        <c:axId val="20191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82270"/>
        <c:crosses val="autoZero"/>
        <c:auto val="1"/>
        <c:lblAlgn val="ctr"/>
        <c:lblOffset val="100"/>
        <c:noMultiLvlLbl val="0"/>
      </c:catAx>
      <c:valAx>
        <c:axId val="31782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91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736-B3B0-4D54-8CCA-BAB249CF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EFF-FDB2-4177-90E1-45155050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CF0-3073-4013-A4CF-643B7D32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D49-A72E-44DB-B244-9D9CC184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929-4E6F-4696-A08B-1278AEF0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973-2F32-49F4-87C8-8A14F6F3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B75-9F41-4B35-908D-21E74698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81C-AC92-4954-A037-66B4E1DF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DF3-A7CB-40D9-B334-89A2BEA8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03B-5EF6-4BC6-B1B8-C1664A66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DB3-DA21-4376-BFCF-4DC657FE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32B-E868-4684-9D3A-6766E6A1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FA8A2-5574-434D-AF86-C493F50711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