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944297"/>
        <c:axId val="25664395"/>
      </c:barChart>
      <c:catAx>
        <c:axId val="529442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64395"/>
        <c:crosses val="autoZero"/>
        <c:auto val="1"/>
        <c:lblAlgn val="ctr"/>
        <c:lblOffset val="100"/>
        <c:noMultiLvlLbl val="0"/>
      </c:catAx>
      <c:valAx>
        <c:axId val="256643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442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A646-651D-4CDB-BB07-6252A4235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0FF-3DB1-4E7F-9A9F-3C394058B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E5B8-6E61-4255-9930-D3BF4940A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32D39-3F08-4516-AC56-7B3124237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2122C-6CCC-4ED4-A78E-BDBAEF330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BC19-71A5-420A-A052-BCFE8238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F3C0-8AE4-42AF-A645-D6E39085B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7CB0-8948-4AD5-994C-5482CB5F5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1898E-2529-4B95-8240-D75938F9B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6133-E57C-4888-9AAD-2BDE5ACBB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3D75-FFBF-4C63-AA3A-106C415B6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A073E-142A-4E37-8DF9-ABE30432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14315-F5D7-431E-8DEB-FFE3DCC197A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