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468585"/>
        <c:axId val="54457996"/>
      </c:barChart>
      <c:catAx>
        <c:axId val="964685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457996"/>
        <c:crosses val="autoZero"/>
        <c:auto val="1"/>
        <c:lblAlgn val="ctr"/>
        <c:lblOffset val="100"/>
        <c:noMultiLvlLbl val="0"/>
      </c:catAx>
      <c:valAx>
        <c:axId val="544579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685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4418-96F2-45B1-89F5-6670FE098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0BB3-70F4-4FF8-BAB0-A9B95477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6594-6A90-4948-944A-BEDADE24C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49BC-49FE-4AB3-BED4-503236FB3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F7EA-E3F4-4D39-8524-1EE12564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EE00-BFBA-4D96-84D1-D8929763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1488-AA33-4EBB-B32F-CF6AEBEF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EE35-7398-4C27-8071-D7E1B413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4A8C-173A-4187-97F4-49EB4108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363F-C85D-4141-8839-C2CDF74D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B2FE-92A4-4036-8C28-C3CADD5E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157F-7FFE-4945-8D79-B98ECA24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2797EA-2375-4B98-BBEF-7D18AE3C90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