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581199"/>
        <c:axId val="32046826"/>
      </c:barChart>
      <c:catAx>
        <c:axId val="535811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046826"/>
        <c:crosses val="autoZero"/>
        <c:auto val="1"/>
        <c:lblAlgn val="ctr"/>
        <c:lblOffset val="100"/>
        <c:noMultiLvlLbl val="0"/>
      </c:catAx>
      <c:valAx>
        <c:axId val="320468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5811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4DB7-D052-4A06-A898-1053B4010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A185-79CA-4C66-92D0-0C10BA30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31F2-B3D0-446A-AFE0-5DF316DDC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C291-80DE-458E-A5F7-76C52F2D4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A9FD-B546-4628-A070-0ECA355F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CBF0-A6D1-4FFD-A2BD-1F75D8A5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3025-B7FA-4496-9D41-9233CE7B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64EB-CBF3-4228-8AD0-5737375B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C142-3BE5-4841-B1F8-579765E8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6ACA-7B3E-452A-AFF3-893A798A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0E48-D250-414F-96A6-3D5F82EB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23EA-0DFC-48DC-A0B7-CA768F28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78EA9A-CF39-48DD-ABF5-758C18DB6D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