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55525"/>
        <c:axId val="6672351"/>
      </c:barChart>
      <c:catAx>
        <c:axId val="15555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2351"/>
        <c:crosses val="autoZero"/>
        <c:auto val="1"/>
        <c:lblAlgn val="ctr"/>
        <c:lblOffset val="100"/>
        <c:noMultiLvlLbl val="0"/>
      </c:catAx>
      <c:valAx>
        <c:axId val="6672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55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900-6FC5-477D-A1E9-35C26BB8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954-F8A3-4B2F-9EB3-8962128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6D8-6E14-4D76-B57E-C3C9CFB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579-EA8E-49F8-9251-61C61A82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960-B3CF-4ED3-A253-E5332333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5D3-798E-46A4-AE78-B7B9AC58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363-FF65-48B9-8424-018D6DC6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964-C1B9-44D9-B134-B4CBDF2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3C0-7D31-43C6-A322-5D6BCCFA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FF4-6019-4520-87E4-0295105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403-72BA-4D2A-950D-2FD5AEB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F7A-10C8-4729-8010-A389C36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BF1D-F969-4948-99C2-2908C019BB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