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83079"/>
        <c:axId val="47846061"/>
      </c:barChart>
      <c:catAx>
        <c:axId val="22883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46061"/>
        <c:crosses val="autoZero"/>
        <c:auto val="1"/>
        <c:lblAlgn val="ctr"/>
        <c:lblOffset val="100"/>
        <c:noMultiLvlLbl val="0"/>
      </c:catAx>
      <c:valAx>
        <c:axId val="47846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83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CCA-3FA7-494F-AEDA-683BDD73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921-7F3B-4832-A657-783C82C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86C-21C3-4E15-86CD-BA995554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A64-DA17-4E98-8265-F12276E2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F4C-4F08-4E48-A5DF-D3993C9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417-B8AC-457A-B92B-08B9E1B5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6A5-6953-4CA0-A250-43B62932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470-DA9B-4096-B70B-F9ABA35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568-05EB-4356-A62A-64E4E85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557-0966-43A6-9D7D-6432FB7C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335-84D7-48C0-BB9C-003DA71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AB3-89EA-407D-995C-71F4E07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916C2-CAF9-43AD-8F49-E54F2028DD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